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C264F-0129-4ED0-85E6-E89B7CA2A74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5A850-B7D6-4A30-A12B-5F38DD0CF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E0F47-D34F-4E47-82BD-25E429C0A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75817-CB90-4DF1-9C6A-3195CF433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EE2E2-4C33-4FFD-95BC-F9F339E8A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75F2A-042A-4388-A5D0-D92E46876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02C9-5994-4537-B3FF-54526665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DAFD5-A946-4F3D-B2D0-7B18A1CC3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CA228-B192-4437-9355-0FF435F91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73FD-47E1-40CE-9782-C0CA1E902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7F17C-C140-4E3B-B6F5-4F666A10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17612-BD8F-4088-9EB0-35B3426F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AC91-5CBD-41E1-8209-E6D223198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16CA-5E78-4AD6-A3D1-CE6EC8D15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74C0-F003-422E-9750-051CC7FDF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71BB-E51B-4D4F-BF00-7E9323B9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6E73-61AB-46FD-888D-3D652B22F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B7B6E-A7AD-485B-B7E2-D601260B36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19C93-EE64-4D06-84A9-5D713653A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8884D-128B-40F0-8BA6-173B7DF1A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ohn Varn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5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8, 2015</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Unopposed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4, Clarification of Water Supply Rights Document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9, ONOPTOUT for RUC Given After the Adjustment Perio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1, Clarifications to Dynamic Rating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2, Changes to Notification Method when ERCOT Intends to Procure Additional Ancillary Servic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3, Revision to Available Credit Limit Calcul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6, Changing the IRR Forecast from Next 48 Hours to Next 168 Hou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7, Required Telemetry for Operational Awareness and PDCWG Analysi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8, Black Start Services Testing Clarifica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0, Incorporation of Creditworthiness Standards into Protocols*</a:t>
            </a:r>
            <a:endParaRPr b="0" lang="en-US" sz="2000" spc="-1" strike="noStrike">
              <a:solidFill>
                <a:srgbClr val="000000"/>
              </a:solidFill>
              <a:latin typeface="Arial"/>
            </a:endParaRPr>
          </a:p>
          <a:p>
            <a:pPr>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8, Clarifications to NPRR595, RRS Load Resource Treatment In ORDC – URGEN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62, Proxy Energy Offer Curv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0, Allow QSEs to Self-Arrange AS Quantities Greater Than Their AS Obligation - URG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5, Modifications for ERS Estimates in Calculating Future Planning Reserve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8"/>
          <p:cNvGrpSpPr/>
          <p:nvPr/>
        </p:nvGrpSpPr>
        <p:grpSpPr>
          <a:xfrm>
            <a:off x="1295280" y="2735280"/>
            <a:ext cx="6553440" cy="1387440"/>
            <a:chOff x="1295280" y="2735280"/>
            <a:chExt cx="6553440" cy="1387440"/>
          </a:xfrm>
        </p:grpSpPr>
        <p:sp>
          <p:nvSpPr>
            <p:cNvPr id="178"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179"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62, Proxy Energy Offer Curves</a:t>
            </a:r>
            <a:br>
              <a:rPr sz="2200"/>
            </a:br>
            <a:endParaRPr b="0" lang="en-US" sz="2000" spc="-1" strike="noStrike">
              <a:solidFill>
                <a:srgbClr val="000000"/>
              </a:solidFill>
              <a:latin typeface="Arial"/>
            </a:endParaRPr>
          </a:p>
        </p:txBody>
      </p:sp>
      <p:graphicFrame>
        <p:nvGraphicFramePr>
          <p:cNvPr id="183" name=""/>
          <p:cNvGraphicFramePr/>
          <p:nvPr/>
        </p:nvGraphicFramePr>
        <p:xfrm>
          <a:off x="272880" y="349200"/>
          <a:ext cx="8623440" cy="6257880"/>
        </p:xfrm>
        <a:graphic>
          <a:graphicData uri="http://schemas.openxmlformats.org/drawingml/2006/table">
            <a:tbl>
              <a:tblPr/>
              <a:tblGrid>
                <a:gridCol w="1270080"/>
                <a:gridCol w="7353360"/>
              </a:tblGrid>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I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ddresses proxy Energy Offer Curves generated by ERCOT for a Resource that does not submit an Energy Offer Curve or submits an incomplete Energy Offer Curve.  For a Resource without an Energy Offer Curve, a monotonically increasing proxy Energy Offer Curve will be created such that the last point on the curve (the Resource’s High Sustained Limit (HSL)) is offered at $1,500 per MW.  For a Resource with an incomplete Energy Offer Curve (typically cogeneration facilities that update their HSL, but not their offer curve), a proxy Energy  Offer Curve will be created to extend the offer price from last point on the submitted Energy Offer Curve up to the Resource’s HS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3/12/15, PRS voted to recommend approval of NPRR662 as amended by the 2/27/15 TIEC comments.  There were three abstentions from the Investor Owned Utility (IOU)(2) and Independent Power Marketer (IPM) Market Segments.  On 5/14/15, PRS voted to endorse and forward to TAC the 4/16/15 PRS Report and Impact Analysis for NPRR662 with a recommended priority of 2015 and rank of 1310.  There was one opposing vote from the IOU Market Segment and three abstentions from Independent Generator (2) and IOU Market Segment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5; Rank 131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57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80k and $120k; Settlements and Billing (S&amp;B) and Market Management Systems (M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sponsive to issues raised by the Independent Market Monitor (IMM).  Facilitates more efficient and appropriate scarcity pricing.  Makes additional energy available to the market sooner.  Creates more appropriate pricing outcomes and will smooth price spikes when proxy energy is dispatched through SCED.  May encourage cogeneration units to update their HSL where they would not do so today to avoid setting prices at the cap.  Positive impact to Consumer Market Segment in the form of lower energy prices.  Positive impact to Generator Market Segment in the form of more appropriate price signals and more efficient proxy offers for energy without an off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379440" y="429840"/>
            <a:ext cx="84456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80, Allow QSEs to Self-Arrange AS Quantities Greater Than Their AS Obligation - URGENT</a:t>
            </a:r>
            <a:br>
              <a:rPr sz="2000"/>
            </a:br>
            <a:br>
              <a:rPr sz="2200"/>
            </a:br>
            <a:endParaRPr b="0" lang="en-US" sz="2000" spc="-1" strike="noStrike">
              <a:solidFill>
                <a:srgbClr val="000000"/>
              </a:solidFill>
              <a:latin typeface="Arial"/>
            </a:endParaRPr>
          </a:p>
        </p:txBody>
      </p:sp>
      <p:graphicFrame>
        <p:nvGraphicFramePr>
          <p:cNvPr id="186" name=""/>
          <p:cNvGraphicFramePr/>
          <p:nvPr/>
        </p:nvGraphicFramePr>
        <p:xfrm>
          <a:off x="262080" y="776160"/>
          <a:ext cx="8623080" cy="5151600"/>
        </p:xfrm>
        <a:graphic>
          <a:graphicData uri="http://schemas.openxmlformats.org/drawingml/2006/table">
            <a:tbl>
              <a:tblPr/>
              <a:tblGrid>
                <a:gridCol w="1404720"/>
                <a:gridCol w="7218360"/>
              </a:tblGrid>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poses to allow a Qualified Scheduling Entity (QSE) to submit Self-Arranged Ancillary Service Quantities in excess of its Ancillary Service Obligations by up to 100 MW and to receive appropriate compensation for those self-arranged quantities.  This NPRR does not propose to change the requirement that self-arranged Responsive Reserve (RRS) service provided by a Load Resource must be limited to 50% of a QSE’s RRS Ancillary Service Obligation, pursuant to paragraph (7) of Section 3.16, Standards for Determining Ancillary Service Quantiti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6/15, PRS unanimously voted to grant Urgent status to NPRR680.  PRS then unanimously voted to table NPRR680.  On 5/14/15, PRS voted to recommend approval of NPRR680 as amended by the 5/12/15 LCRA comments and revised by PRS, and to forward to TAC with a recommended rank of 2015 and priority of 1330.  There were two opposing votes from the Cooperative and Municipal Market Segments and one abstention from the Municipal Market Segmen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5; Rank 133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20k and $30k; Market Management Systems (M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58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nables QSEs who bilaterally purchase more Ancillary Service MW than their Ancillary Service Obligation to be compensated for those MW.  Provides ERCOT better information for DAM and SASM calculations, enabling more efficient procurement of Ancillary Services.  Potentially lowers Ancillary Service prices.  Provides a mechanism for a QSE to be compensated for excess Ancillary Service M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Binding Documents List – Removal of “Credit Formulas and Detail Whitepaper for the Day-Ahead Marke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4/14/15, the ERCOT Board approved NPRR671, Incorporation of DAM Credit Parameters into Protocols, which supersedes this OBD.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4/16/15, PRS approved the removal of this OBD from the Other Binding Documents Lis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intaining Duplicate EEA Language in Protocols and Operating Guides (Possible Vote)</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fter discussion at both ROS and PRS, there is not consensus on whether duplicate language should exist in the Protocols and Operating Guides, or if the language should exist in one with a cross-reference in the other.</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5-05-18T15:54:44Z</dcterms:modified>
  <cp:revision>26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